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FA7-02A0-4C92-B585-9E7B5DB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309-DB56-4503-A3BD-C9BC577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FBD-1D14-4394-AC80-7C425B0F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011-1447-4941-A588-E570FE4D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053-6415-4189-A45A-24DD7EA1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329-49C2-49B7-B7D9-8439DCA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372-0777-467B-B128-892C61EC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CD7-B88C-4C33-B8C2-B710B2C1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4ED-C3E7-42F2-939D-F81F492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40C-C523-433C-BBCD-24170F0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65D-560D-4B04-B5E8-D3E76498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F2C-7A55-4612-B165-E1E9FCF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7308-0795-47B7-91E9-5F332FCA3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Natatia C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ixies didn’t answer, the orange one sneezed and with that a little bunny appear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39625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Maki-Chan, when she is with you you’re always noticed and look your age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41911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0e3c76da.gif"/>
          <p:cNvPicPr/>
          <p:nvPr/>
        </p:nvPicPr>
        <p:blipFill>
          <a:blip r:embed="rId2"/>
          <a:stretch/>
        </p:blipFill>
        <p:spPr>
          <a:xfrm>
            <a:off x="6019920" y="388620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ddenly, the girl transform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2786040" y="1600200"/>
            <a:ext cx="357192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hm_phpL8ESAS.jpg"/>
          <p:cNvPicPr/>
          <p:nvPr/>
        </p:nvPicPr>
        <p:blipFill>
          <a:blip r:embed="rId2"/>
          <a:stretch/>
        </p:blipFill>
        <p:spPr>
          <a:xfrm>
            <a:off x="6095880" y="3657600"/>
            <a:ext cx="20196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really big conce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Guitar-1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ent to town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everyone noticed her. Her dreams had come true! She was a singer, and a noticed one at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GANGURO_by_Yotchi.jpg"/>
          <p:cNvPicPr/>
          <p:nvPr/>
        </p:nvPicPr>
        <p:blipFill>
          <a:blip r:embed="rId1"/>
          <a:stretch/>
        </p:blipFill>
        <p:spPr>
          <a:xfrm>
            <a:off x="4267080" y="1325520"/>
            <a:ext cx="3733920" cy="518976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sang at birth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birthday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wondered two th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ncady\Local Settings\Temporary Internet Files\Content.IE5\AKYO3JOJ\MCj04122040000[1].wmf"/>
          <p:cNvPicPr/>
          <p:nvPr/>
        </p:nvPicPr>
        <p:blipFill>
          <a:blip r:embed="rId1"/>
          <a:stretch/>
        </p:blipFill>
        <p:spPr>
          <a:xfrm>
            <a:off x="3554280" y="2998800"/>
            <a:ext cx="2035440" cy="172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her hair was NEVER the s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1143000" y="1981080"/>
            <a:ext cx="357012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hibicamer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914560" cy="47246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hy she always had that bunny with 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thm_phpL8ESAS.jpg"/>
          <p:cNvPicPr/>
          <p:nvPr/>
        </p:nvPicPr>
        <p:blipFill>
          <a:blip r:embed="rId1"/>
          <a:stretch/>
        </p:blipFill>
        <p:spPr>
          <a:xfrm>
            <a:off x="5105520" y="380988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ANGURO_by_Yotchi.jpg"/>
          <p:cNvPicPr/>
          <p:nvPr/>
        </p:nvPicPr>
        <p:blipFill>
          <a:blip r:embed="rId2"/>
          <a:stretch/>
        </p:blipFill>
        <p:spPr>
          <a:xfrm>
            <a:off x="1600200" y="1752480"/>
            <a:ext cx="3429000" cy="476568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15 and loved her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72040" y="2393640"/>
            <a:ext cx="304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her life she dreamed of being a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4" descr="rocknrollbabii.jpg"/>
          <p:cNvPicPr/>
          <p:nvPr/>
        </p:nvPicPr>
        <p:blipFill>
          <a:blip r:embed="rId1"/>
          <a:stretch/>
        </p:blipFill>
        <p:spPr>
          <a:xfrm>
            <a:off x="3657600" y="2286000"/>
            <a:ext cx="2651040" cy="35305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en people looked at her, they saw a little gir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anime-child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e would color her hair, and sing outside to get people to notice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one d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n723065527_1488210_506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no one d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3 little pixies appeared as she sl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7" descr="th0e3c76da.gif"/>
          <p:cNvPicPr/>
          <p:nvPr/>
        </p:nvPicPr>
        <p:blipFill>
          <a:blip r:embed="rId1"/>
          <a:stretch/>
        </p:blipFill>
        <p:spPr>
          <a:xfrm>
            <a:off x="1905120" y="3809880"/>
            <a:ext cx="1981080" cy="21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h6ohax2.gif"/>
          <p:cNvPicPr/>
          <p:nvPr/>
        </p:nvPicPr>
        <p:blipFill>
          <a:blip r:embed="rId2"/>
          <a:stretch/>
        </p:blipFill>
        <p:spPr>
          <a:xfrm>
            <a:off x="304812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th18275fdf.gif"/>
          <p:cNvPicPr/>
          <p:nvPr/>
        </p:nvPicPr>
        <p:blipFill>
          <a:blip r:embed="rId3"/>
          <a:stretch/>
        </p:blipFill>
        <p:spPr>
          <a:xfrm>
            <a:off x="4495680" y="4191120"/>
            <a:ext cx="121932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have come to grant your wish!” Said the pixi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PJNeko.jpg"/>
          <p:cNvPicPr/>
          <p:nvPr/>
        </p:nvPicPr>
        <p:blipFill>
          <a:blip r:embed="rId1"/>
          <a:stretch/>
        </p:blipFill>
        <p:spPr>
          <a:xfrm>
            <a:off x="533520" y="2743200"/>
            <a:ext cx="647676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h18275fdf.gif"/>
          <p:cNvPicPr/>
          <p:nvPr/>
        </p:nvPicPr>
        <p:blipFill>
          <a:blip r:embed="rId2"/>
          <a:stretch/>
        </p:blipFill>
        <p:spPr>
          <a:xfrm rot="20032200">
            <a:off x="4876560" y="3048120"/>
            <a:ext cx="644400" cy="69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h0e3c76da.gif"/>
          <p:cNvPicPr/>
          <p:nvPr/>
        </p:nvPicPr>
        <p:blipFill>
          <a:blip r:embed="rId3"/>
          <a:stretch/>
        </p:blipFill>
        <p:spPr>
          <a:xfrm rot="19742400">
            <a:off x="5257800" y="3885840"/>
            <a:ext cx="97632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h6ohax2.gif"/>
          <p:cNvPicPr/>
          <p:nvPr/>
        </p:nvPicPr>
        <p:blipFill>
          <a:blip r:embed="rId4"/>
          <a:stretch/>
        </p:blipFill>
        <p:spPr>
          <a:xfrm rot="20506200">
            <a:off x="4470120" y="408888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OW?!” Said the gir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9051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07:41Z</dcterms:created>
  <dc:creator>itsuser</dc:creator>
  <dc:description/>
  <dc:language>en-US</dc:language>
  <cp:lastModifiedBy>itsuser</cp:lastModifiedBy>
  <dcterms:modified xsi:type="dcterms:W3CDTF">2009-04-14T15:51:35Z</dcterms:modified>
  <cp:revision>16</cp:revision>
  <dc:subject/>
  <dc:title>What what?</dc:title>
</cp:coreProperties>
</file>